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8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laser.wav" ContentType="audio/x-wav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615-4DE7-498C-A183-AF0696E3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B0B-A434-4C2C-8A43-5CDD8238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96C05-A49C-456D-99DA-24901F9B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06AF5-AAE8-4E44-B8C8-6EE9240B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09648-AA92-486F-8C64-9F0452C0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FD033-5CAB-4FD5-A239-51042810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D95E0-B236-42A7-9AA3-16404825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142A5-117E-4F72-A7EF-4398BB71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AE1A-71D1-4C39-B77C-ECC4F11F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40D46-1F4E-485E-BC5B-849830CC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F3581-D638-48F7-9D66-EF102965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F328B-D032-40A7-B286-D636E496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9C6-845E-4B1C-9B8A-BB1DDCE3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D5F8A-6B46-402A-85AF-88C5764C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5C1E1-F1CA-432F-A8DB-49BF6EF8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85F87-8622-40A5-94F5-699DBB0B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0E132-A812-437F-81F7-A058EB31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8D459-9866-4E87-BB40-3976E6CD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13EF8-208F-4FF8-9FBF-E5645243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14E3F-EAE0-4025-92D7-68427D7A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55811-670F-4A73-81A5-F6453EAD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EFACD-E966-4CA4-9EDA-A28C7F46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5646E-991C-4071-945A-CF524A6F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5CA-A5E2-4B94-9107-7664A43A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04B12-7394-421B-BCF4-177A7090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6F2A1-D858-4733-AC97-5930C4F9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AC1B7-180E-40A1-9FDA-1C3D7966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40B02-931C-43AE-96FB-DA73698F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19271-B4B8-4ACC-B835-478788F9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0E41B-C4AC-4618-A613-631E46CC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9B6C9-1EFE-4537-9BE8-A0FE5445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7D0CF-4C6D-4CDB-8F90-19772495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B67AA-24F2-4218-9C33-65115C6B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70099-A52C-4965-8EFD-F484DE0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E5E0-012B-4E7F-B099-26DC02F9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49933-1D58-42D5-B0D0-4C55CDAC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D9B2D-68A0-4883-BE7F-EDA80609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0FDE8-32D0-45A8-861B-0929C6D7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E159A-5935-4B81-839A-852D5EED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1BD78-BF89-47BA-A30F-1C095210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270F2-79EA-4530-AB58-D6051452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C1DC9-A8DC-4DE7-8006-164F041F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65FFD-1978-483C-9720-513F5882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8728D-9922-4CBA-B33A-FC920171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B64E7-259E-417E-B8B7-C51F6D4C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BEE9-8B3A-4B89-9974-2243C115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343E1-8F36-4F1C-8294-1C906A16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B1022-B405-470C-8E50-7F7062E0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B1469-5DAC-45F4-854F-D139229C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6366F-0027-4994-96B3-ED1CFFED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9ED4B-E07F-44B2-807C-9FA59CBC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EE3F7-5AE9-4611-A9BC-584301E6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637CA-8077-409B-AECA-C75CAACC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3F17C-2939-4288-902B-DC2A4D66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E8EE4-98AE-46D8-B2B4-BBCF4114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23016-E5D1-42D2-AFB9-7AAA941B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939A-220D-499B-B3DB-3836D152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5EA71-12FB-489C-AB13-18F6EEB4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DD98C-EC77-41ED-A5A9-5057DF04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F75DD-EA17-4A31-99A4-07E15C0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0E66E-18D6-463A-B2B1-725A8F6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3D2D8-9296-4B24-B4F6-57EDF179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AE9DF-565F-461F-B2E8-24950BE0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ED11F-AA07-44C6-A0BF-01C7A210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1742E-A8E8-424A-BE47-977DD67F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5B94B-525E-44CA-A7BF-B3A613E6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1E08C-EBBF-4F30-8588-3FAA4F71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CEB3-D97A-43AD-AB9A-08591E07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FCD81-AE66-4204-B502-8A08D7E2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FEBF6-BC67-404E-8A8B-4DFAF8AB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EF2B7-6B4E-46F2-8885-856762B1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1F337-C933-4FA0-9687-F81CF993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898EF-BB23-46CF-BEBF-233DE621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2F627-5172-463F-AFD7-79B2F7BD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F6AD6-E245-41E9-AEA0-F81896AD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E9199-8407-4901-BAC1-E242837B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3FE34-1100-4908-8CAD-17C86DD9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26AC0-7AF4-4AAC-BC53-A2700FC9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4F10-ED16-43B6-9397-4451472A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B975C-839B-4BCA-B74D-628AA38A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84413-60AB-4974-9EE9-7C2B478F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CA5CD-1CF1-4784-9D38-A6FF165F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2232F-088C-4983-8F92-E39FB920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B62FD-7AE7-4293-A57C-CA129D8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65E5F-1459-4576-A43A-2DCE7B2D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6B140-4F29-4478-A3D4-1908382C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C25AA-9A71-455C-83D7-6071FFEC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F82A4-C4E3-45BC-8ED7-4D6D3B5E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E9199-67E3-4FFC-AB7E-A1F3B1C9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C784-4955-4EFA-A154-C480734C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CBFA6-196E-4D6B-BC9D-E2A173CE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F34E2-8626-4A9A-AAB2-7ADCE348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2D24B-DC93-4CA0-B111-1BF24962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7799B-19A8-4878-B6F7-03EF4385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17488-E76F-42D2-83CE-98DA009E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693C6-9E46-427E-B45E-0B4F21ED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27DA9-D471-4918-9C8E-6E8F10D3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37AF3-92CB-4C58-BB9A-B421D88C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2FFAF-975A-4A9C-8E00-AF4F7F51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76602-CE5F-4D22-A7ED-563E16EC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FAB0-9F0E-47E3-B1F5-36406F00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4D5CC-36B1-412F-A90E-37C5E7B4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53009-D322-48E9-97BC-3325F56F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DC192-06F6-4BB5-AE1C-454D6379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869-CB29-4CAA-8ACE-AF3294F9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6FD8-2096-4CEF-A089-FC66DEC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A135-ECC0-4C0D-8663-A4A182F7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1F13-7AC6-434E-A494-4DDCCAC5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0DDB-5F4A-4CA5-A47D-2FBF8654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2CBF-CC72-45CF-83B9-4D7E0C0D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9F0C2-CA12-489F-A7A9-958D47D9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C081A-D762-4BDC-930C-52500B12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AFD43-73B8-40C4-BC8C-C741D001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BBD45-15F9-4E3A-BF05-8E7F170F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2B268-66A0-4D3C-A706-5960D3F6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24D-25C7-4091-98D4-55BCD495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2900B-8630-44B4-B02B-772EEA7E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15A31-2F57-416A-A12C-A4F168FD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7D892-DC9E-4C40-82F7-53858D6D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79F85-8FBE-4E3F-A37F-A6A03C98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33471-4908-4A9C-A795-18091E57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AF529-A202-443F-9148-9EAA1EDE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6BE49-9BDD-4455-9B3A-02B76EE6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26D0B-09D7-4B27-8968-3F5BF6DA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34A74A-5BD4-4C19-A5E3-B74034EF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1EC4C-A6CC-44A9-A986-41D04B33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B3A-8B5D-4535-A75C-BC265ACC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48EAA-3A0B-45C5-A1B2-72D79E79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0CEB1-82F3-41B0-8F97-DAA1E9C0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56DB3-DE17-4AB7-AFA7-02664AD8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F9D580-5997-4A50-A90B-9680BBE7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66975-26AE-4034-A5DD-950BEC90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413CF-5629-43CC-8065-B8DD70F0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4CF2C-517B-4649-8AA0-FA862E67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74B8E-9BE6-498B-A920-C126C1DD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797B3-4E23-4561-A456-352FC6CB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3B3E6-B5C2-44EC-9AFE-42C928B5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63F-FEB1-4B83-BF87-974FEBA5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7E97B-AA78-40FE-8555-FBD383C4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9C2C-3623-49DD-93F8-23F5DA34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F1225-1D01-425D-AB4C-A6E8D2B6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10005-D4E6-44B3-906B-D5569392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65A90-E208-4DCE-A716-01348A6B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DD94E-3DE1-4579-A2F4-05572DD8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CC3F-B7B6-4128-AF96-3433B6AB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A68A3-ADDA-4C43-ADBC-6EE47C28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7D9B-41C2-4968-8428-9BFE217D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70995-7976-41EE-ABFB-8AF2BB1E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B90-E31E-49DE-9449-BAD5E4EC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7AF4A-CCB8-47FA-8AB0-FA96CC82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396FE-059B-4166-A0B3-BFE4CDB6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7D2E5-6B25-48D8-9AC1-1B41E36F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5F1D4-AB6D-4C2E-89D3-AD7CDFD7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2D2E7-78BD-404F-B65F-2F0E9DFC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6D39D-4FA2-43C2-B7BC-3DB249B0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2D9B8-E664-4BCB-B5C9-954ACDD3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0C5F-D892-4A30-9AAC-6382C60C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EDC95-65B4-4823-BB4C-6321C94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02680-54D3-4EBB-BAA6-B465245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B70-B266-4574-920A-19D2705E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C79E0-34AB-4F5C-ACAE-5C3A8593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F2365-5290-4D7F-944D-92CBE0E3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51897-1A25-4EB7-A5E3-D573F7BA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CC22D-FB37-4C5B-9BE6-609B63A5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0DB9F-31A7-4B87-833D-695BD921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1B237-9BB8-4A8F-89C2-BF78BAD7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3B31-47EB-4B06-B173-E50CD579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AA6B2-4329-4710-9B03-4DA14856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3E643-FB1D-41CA-B119-EEA148F1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28A2F-287F-41C6-A5AE-2DF0088F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90A-4E05-4071-8DE9-55E1C80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660C6-BA2E-4B5B-8006-C117E918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FA1DB-BB73-48FA-B4D8-0DD2FCE6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828F9-5006-42A3-87EE-50B4E50E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0DD1C-C420-4CF0-8F47-73AA299C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75C41-A645-4A89-98DF-F3DFB7C6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28E7C-471B-4537-9394-20B16CD2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1352D-E926-45F3-A74C-37D02AA8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669A8-70EB-4B07-A17C-3C51A85C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A1788-D858-4E70-B593-E67C9209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8FA57-CF68-4EB7-84A4-4F4F074E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196-DF9B-4DA9-8C02-EF806869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660BB-D3E5-4C45-8D91-472FC649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448A5-D210-43D3-BA27-DA4F8D1C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E4AB6-AB4E-4D23-A943-252DD429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4D6EB-BFC8-47E1-87B1-B1076494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72B15-F23F-4210-9DBC-5ED8AE9B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3EA01-8F85-4478-8E33-30BAF54F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1A0F4-D3D6-4582-80BD-31ED72A4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B1487-F231-47F5-97DC-2D549740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923FC-3169-4832-A3F8-FF722141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DCAE4-5B79-46D6-B2BE-BB015537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C610-DD5A-400A-8C51-C77F31B5B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1CD6-EB82-462C-AB22-C68E45E0E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5CB9-332F-4203-9247-4ADB335D7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ECC6-3DCA-46A2-B975-5EDE6DDF4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7141-AA1F-41D2-AD47-2403B93D4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30C8-62C8-4CB2-9BFC-91AAB9797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1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|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39AA-21D1-4DEA-9C61-5B1B428B4E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-105120" y="1311120"/>
            <a:ext cx="9350640" cy="5633280"/>
            <a:chOff x="-105120" y="1311120"/>
            <a:chExt cx="9350640" cy="5633280"/>
          </a:xfrm>
        </p:grpSpPr>
        <p:sp>
          <p:nvSpPr>
            <p:cNvPr id="876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7"/>
            <p:cNvSpPr/>
            <p:nvPr/>
          </p:nvSpPr>
          <p:spPr>
            <a:xfrm flipV="1" rot="18603600">
              <a:off x="642924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8"/>
            <p:cNvSpPr/>
            <p:nvPr/>
          </p:nvSpPr>
          <p:spPr>
            <a:xfrm flipH="1" flipV="1" rot="18391200">
              <a:off x="8519040" y="661680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F8C7-4CEC-4035-A07C-07F2AE4E39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C604-5F88-4F44-A0D6-99F43D7CE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|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155A-45D5-460D-B06E-84BF3AEDD2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103320" y="1308240"/>
            <a:ext cx="9350640" cy="5633280"/>
            <a:chOff x="-103320" y="1308240"/>
            <a:chExt cx="9350640" cy="5633280"/>
          </a:xfrm>
        </p:grpSpPr>
        <p:sp>
          <p:nvSpPr>
            <p:cNvPr id="14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 flipV="1" rot="18603600">
              <a:off x="6431040" y="556020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 flipH="1" flipV="1" rot="18391200">
              <a:off x="8520840" y="661392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AB52-8B9C-49BA-B0AC-4C13749C3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9E49-3506-4F17-8BB5-C41D86334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5F5-0E40-4501-A95D-392891BF2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5B4F-317C-4099-91EF-2AAA1A35A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969B-0280-4A36-AA62-51676CB69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DE6A-6852-4AB1-93BF-A877BA805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hyperlink" Target="file:///tmp/home/.config/libreoffice/4/user/gallery/CIMG0003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hyperlink" Target="file:///tmp/home/.config/libreoffice/4/user/gallery/CIMG0006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IMG0003.WAV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IMG0006.WAV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3.xml"/><Relationship Id="rId5" Type="http://schemas.openxmlformats.org/officeDocument/2006/relationships/hyperlink" Target="file:///tmp/home/.config/libreoffice/4/user/gallery/CIMG0007.WAV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20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C:\Documents and Settings\All Users\Documents\&#21494;&#40511;&#20873;&#25991;&#20214;&#24211;\&#21494;&#40511;&#20873;&#25991;&#20214;&#24211;&#20013;&#36716;&#31449;\Microsoft PowerPoint&#28436;&#31034;&#25991;&#31295;.ppt &#24211;\&#35838;&#20214;\&#27721;&#35821;&#25340;&#38899;\iuv&#32451;&#20064;.doc" TargetMode="External"/><Relationship Id="rId7" Type="http://schemas.openxmlformats.org/officeDocument/2006/relationships/image" Target="../media/image23.pn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24.pn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hyperlink" Target="file:///tmp/home/.config/libreoffice/4/user/gallery/CIMG0007.WAV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file:///tmp/home/.config/libreoffice/4/user/gallery/CIMG0003.WAV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file:///tmp/home/.config/libreoffice/4/user/gallery/CIMG0006.WAV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hyperlink" Target="file:///tmp/home/.config/libreoffice/4/user/gallery/CIMG0003.WAV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hyperlink" Target="file:///tmp/home/.config/libreoffice/4/user/gallery/CIMG0006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hyperlink" Target="file:///tmp/home/.config/libreoffice/4/user/gallery/CIMG0007.WAV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3" name="Picture 7" descr="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4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4BF3-570C-49DE-B024-0269D606739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1843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39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7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8"/>
          <p:cNvSpPr/>
          <p:nvPr/>
        </p:nvSpPr>
        <p:spPr>
          <a:xfrm>
            <a:off x="380880" y="2819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9"/>
          <p:cNvSpPr/>
          <p:nvPr/>
        </p:nvSpPr>
        <p:spPr>
          <a:xfrm>
            <a:off x="380880" y="6095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WordArt 10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4" name="Line 11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2"/>
          <p:cNvSpPr/>
          <p:nvPr/>
        </p:nvSpPr>
        <p:spPr>
          <a:xfrm>
            <a:off x="5029200" y="2819520"/>
            <a:ext cx="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3"/>
          <p:cNvSpPr/>
          <p:nvPr/>
        </p:nvSpPr>
        <p:spPr>
          <a:xfrm>
            <a:off x="4114800" y="2590920"/>
            <a:ext cx="380880" cy="12952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5"/>
          <p:cNvSpPr/>
          <p:nvPr/>
        </p:nvSpPr>
        <p:spPr>
          <a:xfrm flipV="1">
            <a:off x="4495680" y="2742840"/>
            <a:ext cx="228600" cy="11430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6"/>
          <p:cNvSpPr/>
          <p:nvPr/>
        </p:nvSpPr>
        <p:spPr>
          <a:xfrm>
            <a:off x="3276720" y="30481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7"/>
          <p:cNvSpPr/>
          <p:nvPr/>
        </p:nvSpPr>
        <p:spPr>
          <a:xfrm>
            <a:off x="52578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20"/>
          <p:cNvSpPr/>
          <p:nvPr/>
        </p:nvSpPr>
        <p:spPr>
          <a:xfrm>
            <a:off x="38098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1"/>
          <p:cNvSpPr/>
          <p:nvPr/>
        </p:nvSpPr>
        <p:spPr>
          <a:xfrm>
            <a:off x="47242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22"/>
          <p:cNvSpPr/>
          <p:nvPr/>
        </p:nvSpPr>
        <p:spPr>
          <a:xfrm>
            <a:off x="3429000" y="14479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23"/>
          <p:cNvSpPr/>
          <p:nvPr/>
        </p:nvSpPr>
        <p:spPr>
          <a:xfrm>
            <a:off x="4876920" y="1676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670B-D1C8-40A6-9FF0-507CF3581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Picture 12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57" name="WordArt 13"/>
          <p:cNvSpPr txBox="1"/>
          <p:nvPr/>
        </p:nvSpPr>
        <p:spPr>
          <a:xfrm>
            <a:off x="5410080" y="990720"/>
            <a:ext cx="1828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58" name="Picture 14" descr="《汉语拼音 2》y插图"/>
          <p:cNvPicPr/>
          <p:nvPr/>
        </p:nvPicPr>
        <p:blipFill>
          <a:blip r:embed="rId3"/>
          <a:stretch/>
        </p:blipFill>
        <p:spPr>
          <a:xfrm>
            <a:off x="1219320" y="106668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259" name="Text Box 17"/>
          <p:cNvSpPr/>
          <p:nvPr/>
        </p:nvSpPr>
        <p:spPr>
          <a:xfrm>
            <a:off x="434340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声母（韵母＋声母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为了区分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于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让我们叫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大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“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(y)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”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吧！自然，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小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“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（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）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”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WordArt 18"/>
          <p:cNvSpPr txBox="1"/>
          <p:nvPr/>
        </p:nvSpPr>
        <p:spPr>
          <a:xfrm>
            <a:off x="990720" y="3886200"/>
            <a:ext cx="3429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1" name="Picture 19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91520" y="152388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6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04AB-5F09-4120-8C02-F2AA4741A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65" name="Line 5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7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8"/>
          <p:cNvSpPr/>
          <p:nvPr/>
        </p:nvSpPr>
        <p:spPr>
          <a:xfrm>
            <a:off x="380880" y="6095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9"/>
          <p:cNvSpPr/>
          <p:nvPr/>
        </p:nvSpPr>
        <p:spPr>
          <a:xfrm rot="19536000">
            <a:off x="2414520" y="2701800"/>
            <a:ext cx="4572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AutoShape 10"/>
          <p:cNvSpPr/>
          <p:nvPr/>
        </p:nvSpPr>
        <p:spPr>
          <a:xfrm rot="10800000">
            <a:off x="1828800" y="2742840"/>
            <a:ext cx="533520" cy="76212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1"/>
          <p:cNvSpPr/>
          <p:nvPr/>
        </p:nvSpPr>
        <p:spPr>
          <a:xfrm rot="1660800">
            <a:off x="2968200" y="2665080"/>
            <a:ext cx="457200" cy="321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12"/>
          <p:cNvSpPr/>
          <p:nvPr/>
        </p:nvSpPr>
        <p:spPr>
          <a:xfrm rot="12758400">
            <a:off x="3733560" y="2743200"/>
            <a:ext cx="380880" cy="3808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13"/>
          <p:cNvSpPr/>
          <p:nvPr/>
        </p:nvSpPr>
        <p:spPr>
          <a:xfrm rot="1444200">
            <a:off x="3660840" y="2723760"/>
            <a:ext cx="3808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14"/>
          <p:cNvSpPr/>
          <p:nvPr/>
        </p:nvSpPr>
        <p:spPr>
          <a:xfrm>
            <a:off x="762120" y="4952880"/>
            <a:ext cx="129528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WordArt 16"/>
          <p:cNvSpPr txBox="1"/>
          <p:nvPr/>
        </p:nvSpPr>
        <p:spPr>
          <a:xfrm>
            <a:off x="990720" y="51814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碰线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AC46-7E92-42E9-942C-5EB4BAD7F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7" descr="《汉语拼音 2》w插图"/>
          <p:cNvPicPr/>
          <p:nvPr/>
        </p:nvPicPr>
        <p:blipFill>
          <a:blip r:embed="rId3"/>
          <a:stretch/>
        </p:blipFill>
        <p:spPr>
          <a:xfrm>
            <a:off x="380880" y="609480"/>
            <a:ext cx="4267440" cy="3048120"/>
          </a:xfrm>
          <a:prstGeom prst="rect">
            <a:avLst/>
          </a:prstGeom>
          <a:ln w="0">
            <a:noFill/>
          </a:ln>
        </p:spPr>
      </p:pic>
      <p:sp>
        <p:nvSpPr>
          <p:cNvPr id="1280" name="WordArt 8"/>
          <p:cNvSpPr txBox="1"/>
          <p:nvPr/>
        </p:nvSpPr>
        <p:spPr>
          <a:xfrm>
            <a:off x="762120" y="4419720"/>
            <a:ext cx="3429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u</a:t>
            </a:r>
            <a:r>
              <a:rPr b="0" lang="zh-CN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1" name="Text Box 9"/>
          <p:cNvSpPr/>
          <p:nvPr/>
        </p:nvSpPr>
        <p:spPr>
          <a:xfrm>
            <a:off x="4191120" y="281952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幼圆"/>
                <a:ea typeface="幼圆"/>
              </a:rPr>
              <a:t>        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这是个声母（韵母＋声母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=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一个字的读音）为了区分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于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让我们叫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大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(w)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幼圆"/>
              </a:rPr>
              <a:t>”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吧！自然，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=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小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(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）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”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WordArt 10"/>
          <p:cNvSpPr txBox="1"/>
          <p:nvPr/>
        </p:nvSpPr>
        <p:spPr>
          <a:xfrm>
            <a:off x="5410080" y="990720"/>
            <a:ext cx="1828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w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83" name="Picture 11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16002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8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CABB-FFC7-485E-8FCE-C46A6F3D0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6" name="Picture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87" name="Line 5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WordArt 9"/>
          <p:cNvSpPr txBox="1"/>
          <p:nvPr/>
        </p:nvSpPr>
        <p:spPr>
          <a:xfrm>
            <a:off x="2971800" y="2743200"/>
            <a:ext cx="2133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292" name="Line 13"/>
          <p:cNvSpPr/>
          <p:nvPr/>
        </p:nvSpPr>
        <p:spPr>
          <a:xfrm>
            <a:off x="2590920" y="2743200"/>
            <a:ext cx="45720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5"/>
          <p:cNvSpPr/>
          <p:nvPr/>
        </p:nvSpPr>
        <p:spPr>
          <a:xfrm flipV="1">
            <a:off x="3657600" y="3885840"/>
            <a:ext cx="304920" cy="121932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6"/>
          <p:cNvSpPr/>
          <p:nvPr/>
        </p:nvSpPr>
        <p:spPr>
          <a:xfrm>
            <a:off x="4038480" y="3657600"/>
            <a:ext cx="228600" cy="12952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7"/>
          <p:cNvSpPr/>
          <p:nvPr/>
        </p:nvSpPr>
        <p:spPr>
          <a:xfrm flipV="1">
            <a:off x="4952880" y="2742840"/>
            <a:ext cx="381240" cy="1600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8"/>
          <p:cNvSpPr/>
          <p:nvPr/>
        </p:nvSpPr>
        <p:spPr>
          <a:xfrm>
            <a:off x="3505320" y="1981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9"/>
          <p:cNvSpPr/>
          <p:nvPr/>
        </p:nvSpPr>
        <p:spPr>
          <a:xfrm>
            <a:off x="4343400" y="43434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20"/>
          <p:cNvSpPr/>
          <p:nvPr/>
        </p:nvSpPr>
        <p:spPr>
          <a:xfrm>
            <a:off x="2133720" y="32767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1"/>
          <p:cNvSpPr/>
          <p:nvPr/>
        </p:nvSpPr>
        <p:spPr>
          <a:xfrm>
            <a:off x="3200400" y="4343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2"/>
          <p:cNvSpPr/>
          <p:nvPr/>
        </p:nvSpPr>
        <p:spPr>
          <a:xfrm>
            <a:off x="5410080" y="3429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灯片编号占位符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DB10-B12E-4FF5-A268-38C09D4CA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页脚占位符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Picture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04" name="WordArt 5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i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05" name="WordArt 6"/>
          <p:cNvSpPr txBox="1"/>
          <p:nvPr/>
        </p:nvSpPr>
        <p:spPr>
          <a:xfrm>
            <a:off x="990720" y="3809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Picture 8" descr="c80e42ee4c9091d5b3fb95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0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3713-6008-4DC1-8127-5DAC4DA9C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Picture 7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11" name="WordArt 8"/>
          <p:cNvSpPr txBox="1"/>
          <p:nvPr/>
        </p:nvSpPr>
        <p:spPr>
          <a:xfrm>
            <a:off x="990720" y="3809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u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2" name="WordArt 9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wu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13" name="Text Box 10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w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11" descr="c80e42ee4c9091d5b3fb95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48720" y="16765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1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BB32-E4BF-42BA-8A8A-EC9F7E6DF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4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20" name="WordArt 5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u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21" name="Text Box 8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方正姚体"/>
              </a:rPr>
              <a:t>ü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WordArt 9"/>
          <p:cNvSpPr txBox="1"/>
          <p:nvPr/>
        </p:nvSpPr>
        <p:spPr>
          <a:xfrm>
            <a:off x="762120" y="2666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ü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3" name="AutoShape 10">
            <a:hlinkClick r:id="rId4" action="ppaction://hlinksldjump"/>
          </p:cNvPr>
          <p:cNvSpPr/>
          <p:nvPr/>
        </p:nvSpPr>
        <p:spPr>
          <a:xfrm>
            <a:off x="1066680" y="3962520"/>
            <a:ext cx="3276720" cy="266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cbcbcb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WordArt 11"/>
          <p:cNvSpPr txBox="1"/>
          <p:nvPr/>
        </p:nvSpPr>
        <p:spPr>
          <a:xfrm rot="1273200">
            <a:off x="2031480" y="4329000"/>
            <a:ext cx="145764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00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00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5" name="Picture 12" descr="c80e42ee4c9091d5b3fb95a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0100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26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BBB9-5351-4464-AA61-835C7A54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WordArt 4"/>
          <p:cNvSpPr txBox="1"/>
          <p:nvPr/>
        </p:nvSpPr>
        <p:spPr>
          <a:xfrm>
            <a:off x="1523880" y="0"/>
            <a:ext cx="76201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刷洗完毕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0" name="Rectangle 6">
            <a:hlinkClick r:id="" action="ppaction://hlinkshowjump?jump=previousslide"/>
          </p:cNvPr>
          <p:cNvSpPr/>
          <p:nvPr/>
        </p:nvSpPr>
        <p:spPr>
          <a:xfrm>
            <a:off x="304920" y="762120"/>
            <a:ext cx="1066680" cy="5715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E907-25AA-4CD2-ABFC-C4940B58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 txBox="1"/>
          <p:nvPr/>
        </p:nvSpPr>
        <p:spPr>
          <a:xfrm>
            <a:off x="304920" y="2895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由于今天学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u y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笔画过多，所以将就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Arial"/>
                <a:hlinkClick r:id="rId4" action="ppaction://hlinksldjump"/>
              </a:rPr>
              <a:t>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再进行演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点击进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AutoShape 29">
            <a:hlinkClick r:id="rId7" action="ppaction://hlinksldjump"/>
          </p:cNvPr>
          <p:cNvSpPr/>
          <p:nvPr/>
        </p:nvSpPr>
        <p:spPr>
          <a:xfrm rot="10800000">
            <a:off x="4952880" y="4648320"/>
            <a:ext cx="1828800" cy="1295280"/>
          </a:xfrm>
          <a:custGeom>
            <a:avLst/>
            <a:gdLst>
              <a:gd name="textAreaLeft" fmla="*/ 83880 w 1828800"/>
              <a:gd name="textAreaRight" fmla="*/ 1744920 w 18288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0494" h="21600">
                <a:moveTo>
                  <a:pt x="0" y="0"/>
                </a:moveTo>
                <a:lnTo>
                  <a:pt x="30494" y="0"/>
                </a:lnTo>
                <a:lnTo>
                  <a:pt x="30494" y="21600"/>
                </a:lnTo>
                <a:lnTo>
                  <a:pt x="0" y="21600"/>
                </a:lnTo>
                <a:close/>
              </a:path>
              <a:path fill="lightenLess" w="30494" h="21600">
                <a:moveTo>
                  <a:pt x="0" y="0"/>
                </a:moveTo>
                <a:lnTo>
                  <a:pt x="30494" y="0"/>
                </a:lnTo>
                <a:lnTo>
                  <a:pt x="29094" y="1400"/>
                </a:lnTo>
                <a:lnTo>
                  <a:pt x="1400" y="1400"/>
                </a:lnTo>
                <a:close/>
              </a:path>
              <a:path fill="darken" w="30494" h="21600">
                <a:moveTo>
                  <a:pt x="30494" y="0"/>
                </a:moveTo>
                <a:lnTo>
                  <a:pt x="30494" y="21600"/>
                </a:lnTo>
                <a:lnTo>
                  <a:pt x="29094" y="20200"/>
                </a:lnTo>
                <a:lnTo>
                  <a:pt x="29094" y="1400"/>
                </a:lnTo>
                <a:close/>
              </a:path>
              <a:path fill="darkenLess" w="30494" h="21600">
                <a:moveTo>
                  <a:pt x="30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4" y="20200"/>
                </a:lnTo>
                <a:close/>
              </a:path>
              <a:path fill="lighten" w="30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94" h="21600">
                <a:moveTo>
                  <a:pt x="8241" y="7493"/>
                </a:moveTo>
                <a:lnTo>
                  <a:pt x="11748" y="7493"/>
                </a:lnTo>
                <a:lnTo>
                  <a:pt x="11748" y="12828"/>
                </a:lnTo>
                <a:cubicBezTo>
                  <a:pt x="11748" y="13751"/>
                  <a:pt x="12549" y="14482"/>
                  <a:pt x="13585" y="14482"/>
                </a:cubicBezTo>
                <a:lnTo>
                  <a:pt x="15247" y="14482"/>
                </a:lnTo>
                <a:cubicBezTo>
                  <a:pt x="16283" y="14482"/>
                  <a:pt x="17084" y="13751"/>
                  <a:pt x="17084" y="12828"/>
                </a:cubicBezTo>
                <a:lnTo>
                  <a:pt x="17084" y="7493"/>
                </a:lnTo>
                <a:lnTo>
                  <a:pt x="15247" y="7493"/>
                </a:lnTo>
                <a:lnTo>
                  <a:pt x="18755" y="3985"/>
                </a:lnTo>
                <a:lnTo>
                  <a:pt x="22428" y="7493"/>
                </a:lnTo>
                <a:lnTo>
                  <a:pt x="20591" y="7493"/>
                </a:lnTo>
                <a:lnTo>
                  <a:pt x="20591" y="12828"/>
                </a:lnTo>
                <a:cubicBezTo>
                  <a:pt x="20591" y="15596"/>
                  <a:pt x="18015" y="18155"/>
                  <a:pt x="15247" y="18155"/>
                </a:cubicBezTo>
                <a:lnTo>
                  <a:pt x="13585" y="18155"/>
                </a:lnTo>
                <a:cubicBezTo>
                  <a:pt x="10817" y="18155"/>
                  <a:pt x="8241" y="15596"/>
                  <a:pt x="8241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30">
            <a:hlinkClick r:id="rId8" action="ppaction://hlinksldjump"/>
          </p:cNvPr>
          <p:cNvSpPr/>
          <p:nvPr/>
        </p:nvSpPr>
        <p:spPr>
          <a:xfrm>
            <a:off x="6858000" y="464832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1" h="21600">
                <a:moveTo>
                  <a:pt x="12706" y="3837"/>
                </a:moveTo>
                <a:lnTo>
                  <a:pt x="15282" y="6448"/>
                </a:lnTo>
                <a:lnTo>
                  <a:pt x="15282" y="4707"/>
                </a:lnTo>
                <a:lnTo>
                  <a:pt x="17057" y="4707"/>
                </a:lnTo>
                <a:lnTo>
                  <a:pt x="17057" y="8224"/>
                </a:lnTo>
                <a:lnTo>
                  <a:pt x="19668" y="10800"/>
                </a:lnTo>
                <a:lnTo>
                  <a:pt x="18015" y="10800"/>
                </a:lnTo>
                <a:lnTo>
                  <a:pt x="18015" y="17989"/>
                </a:lnTo>
                <a:lnTo>
                  <a:pt x="7396" y="17989"/>
                </a:lnTo>
                <a:lnTo>
                  <a:pt x="7396" y="10800"/>
                </a:lnTo>
                <a:lnTo>
                  <a:pt x="5743" y="10800"/>
                </a:lnTo>
                <a:close/>
              </a:path>
              <a:path fill="darkenLess" w="25411" h="21600">
                <a:moveTo>
                  <a:pt x="15282" y="6448"/>
                </a:moveTo>
                <a:lnTo>
                  <a:pt x="15282" y="4707"/>
                </a:lnTo>
                <a:lnTo>
                  <a:pt x="17057" y="4707"/>
                </a:lnTo>
                <a:lnTo>
                  <a:pt x="17057" y="8224"/>
                </a:lnTo>
                <a:close/>
              </a:path>
              <a:path fill="darkenLess" w="25411" h="21600">
                <a:moveTo>
                  <a:pt x="11783" y="14299"/>
                </a:moveTo>
                <a:lnTo>
                  <a:pt x="13628" y="14299"/>
                </a:lnTo>
                <a:lnTo>
                  <a:pt x="13628" y="17989"/>
                </a:lnTo>
                <a:lnTo>
                  <a:pt x="18015" y="17989"/>
                </a:lnTo>
                <a:lnTo>
                  <a:pt x="18015" y="10800"/>
                </a:lnTo>
                <a:lnTo>
                  <a:pt x="7396" y="10800"/>
                </a:lnTo>
                <a:lnTo>
                  <a:pt x="7396" y="17989"/>
                </a:lnTo>
                <a:lnTo>
                  <a:pt x="11783" y="1798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幼圆"/>
              </a:rPr>
              <a:t>刷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CB17-B23B-4C43-B816-8E5A0ADDB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5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1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13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5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2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23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28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30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34"/>
          <p:cNvSpPr/>
          <p:nvPr/>
        </p:nvSpPr>
        <p:spPr>
          <a:xfrm>
            <a:off x="155520" y="46080"/>
            <a:ext cx="46674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3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4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45"/>
          <p:cNvSpPr/>
          <p:nvPr/>
        </p:nvSpPr>
        <p:spPr>
          <a:xfrm>
            <a:off x="155520" y="46080"/>
            <a:ext cx="46674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4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5" name="WordArt 49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83560"/>
          </a:xfrm>
          <a:prstGeom prst="rect">
            <a:avLst/>
          </a:prstGeom>
          <a:ln w="0">
            <a:noFill/>
          </a:ln>
        </p:spPr>
      </p:pic>
      <p:sp>
        <p:nvSpPr>
          <p:cNvPr id="1156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CB34-4A1A-4854-B555-346DA10F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AutoShape 4">
            <a:hlinkClick r:id="rId2" action="ppaction://hlinksldjump"/>
          </p:cNvPr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WordArt 5"/>
          <p:cNvSpPr txBox="1"/>
          <p:nvPr/>
        </p:nvSpPr>
        <p:spPr>
          <a:xfrm>
            <a:off x="2362320" y="9144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0" name="WordArt 6" descr=""/>
          <p:cNvPicPr/>
          <p:nvPr/>
        </p:nvPicPr>
        <p:blipFill>
          <a:blip r:embed="rId3"/>
          <a:stretch/>
        </p:blipFill>
        <p:spPr>
          <a:xfrm>
            <a:off x="-577800" y="222120"/>
            <a:ext cx="2641680" cy="873360"/>
          </a:xfrm>
          <a:prstGeom prst="rect">
            <a:avLst/>
          </a:prstGeom>
          <a:ln w="0">
            <a:noFill/>
          </a:ln>
        </p:spPr>
      </p:pic>
      <p:sp>
        <p:nvSpPr>
          <p:cNvPr id="1341" name="WordArt 7"/>
          <p:cNvSpPr txBox="1"/>
          <p:nvPr/>
        </p:nvSpPr>
        <p:spPr>
          <a:xfrm>
            <a:off x="2209680" y="380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2" name="AutoShape 20">
            <a:hlinkClick r:id="" action="ppaction://hlinkshowjump?jump=firstslide"/>
          </p:cNvPr>
          <p:cNvSpPr/>
          <p:nvPr/>
        </p:nvSpPr>
        <p:spPr>
          <a:xfrm>
            <a:off x="4419720" y="1600200"/>
            <a:ext cx="457200" cy="838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WordArt 21"/>
          <p:cNvSpPr txBox="1"/>
          <p:nvPr/>
        </p:nvSpPr>
        <p:spPr>
          <a:xfrm>
            <a:off x="533520" y="152388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重播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4" name="WordArt 22"/>
          <p:cNvSpPr txBox="1"/>
          <p:nvPr/>
        </p:nvSpPr>
        <p:spPr>
          <a:xfrm>
            <a:off x="2209680" y="17524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5" name="WordArt 23"/>
          <p:cNvSpPr txBox="1"/>
          <p:nvPr/>
        </p:nvSpPr>
        <p:spPr>
          <a:xfrm>
            <a:off x="2514600" y="3505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6" name="AutoShape 24">
            <a:hlinkClick r:id="rId6"/>
          </p:cNvPr>
          <p:cNvSpPr/>
          <p:nvPr/>
        </p:nvSpPr>
        <p:spPr>
          <a:xfrm>
            <a:off x="3886200" y="2666880"/>
            <a:ext cx="1371600" cy="1219320"/>
          </a:xfrm>
          <a:custGeom>
            <a:avLst/>
            <a:gdLst/>
            <a:ahLst/>
            <a:rect l="l" t="t" r="r" b="b"/>
            <a:pathLst>
              <a:path w="1371600" h="1219200">
                <a:moveTo>
                  <a:pt x="1" y="465691"/>
                </a:moveTo>
                <a:lnTo>
                  <a:pt x="523907" y="465695"/>
                </a:lnTo>
                <a:lnTo>
                  <a:pt x="685800" y="0"/>
                </a:lnTo>
                <a:lnTo>
                  <a:pt x="847692" y="465695"/>
                </a:lnTo>
                <a:lnTo>
                  <a:pt x="1371598" y="465691"/>
                </a:lnTo>
                <a:lnTo>
                  <a:pt x="947747" y="753503"/>
                </a:lnTo>
                <a:lnTo>
                  <a:pt x="1109646" y="1219196"/>
                </a:lnTo>
                <a:lnTo>
                  <a:pt x="685800" y="931379"/>
                </a:lnTo>
                <a:lnTo>
                  <a:pt x="261953" y="1219196"/>
                </a:lnTo>
                <a:lnTo>
                  <a:pt x="423852" y="753503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WordArt 25"/>
          <p:cNvSpPr txBox="1"/>
          <p:nvPr/>
        </p:nvSpPr>
        <p:spPr>
          <a:xfrm>
            <a:off x="1981080" y="5410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8" name="WordArt 26"/>
          <p:cNvSpPr txBox="1"/>
          <p:nvPr/>
        </p:nvSpPr>
        <p:spPr>
          <a:xfrm>
            <a:off x="2514600" y="2362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9" name="WordArt 27" descr=""/>
          <p:cNvPicPr/>
          <p:nvPr/>
        </p:nvPicPr>
        <p:blipFill>
          <a:blip r:embed="rId7"/>
          <a:stretch/>
        </p:blipFill>
        <p:spPr>
          <a:xfrm>
            <a:off x="147600" y="2971800"/>
            <a:ext cx="1876320" cy="1028880"/>
          </a:xfrm>
          <a:prstGeom prst="rect">
            <a:avLst/>
          </a:prstGeom>
          <a:ln w="0">
            <a:noFill/>
          </a:ln>
        </p:spPr>
      </p:pic>
      <p:sp>
        <p:nvSpPr>
          <p:cNvPr id="1350" name="AutoShape 28"/>
          <p:cNvSpPr/>
          <p:nvPr/>
        </p:nvSpPr>
        <p:spPr>
          <a:xfrm>
            <a:off x="4114800" y="304920"/>
            <a:ext cx="1371600" cy="914400"/>
          </a:xfrm>
          <a:prstGeom prst="flowChartInternalStorag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WordArt 29"/>
          <p:cNvSpPr txBox="1"/>
          <p:nvPr/>
        </p:nvSpPr>
        <p:spPr>
          <a:xfrm>
            <a:off x="457200" y="4572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比划演示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2" name="WordArt 30"/>
          <p:cNvSpPr txBox="1"/>
          <p:nvPr/>
        </p:nvSpPr>
        <p:spPr>
          <a:xfrm>
            <a:off x="2286000" y="32004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3" name="WordArt 31"/>
          <p:cNvSpPr txBox="1"/>
          <p:nvPr/>
        </p:nvSpPr>
        <p:spPr>
          <a:xfrm>
            <a:off x="2286000" y="5867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4" name="AutoShape 33"/>
          <p:cNvSpPr/>
          <p:nvPr/>
        </p:nvSpPr>
        <p:spPr>
          <a:xfrm>
            <a:off x="4114800" y="4191120"/>
            <a:ext cx="1219320" cy="761760"/>
          </a:xfrm>
          <a:custGeom>
            <a:avLst/>
            <a:gdLst>
              <a:gd name="textAreaLeft" fmla="*/ 0 w 1219320"/>
              <a:gd name="textAreaRight" fmla="*/ 1219680 w 1219320"/>
              <a:gd name="textAreaTop" fmla="*/ 98640 h 761760"/>
              <a:gd name="textAreaBottom" fmla="*/ 663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WordArt 34" descr=""/>
          <p:cNvPicPr/>
          <p:nvPr/>
        </p:nvPicPr>
        <p:blipFill>
          <a:blip r:embed="rId10"/>
          <a:stretch/>
        </p:blipFill>
        <p:spPr>
          <a:xfrm>
            <a:off x="0" y="5257800"/>
            <a:ext cx="1778040" cy="939960"/>
          </a:xfrm>
          <a:prstGeom prst="rect">
            <a:avLst/>
          </a:prstGeom>
          <a:ln w="0">
            <a:noFill/>
          </a:ln>
        </p:spPr>
      </p:pic>
      <p:sp>
        <p:nvSpPr>
          <p:cNvPr id="1356" name="WordArt 36"/>
          <p:cNvSpPr txBox="1"/>
          <p:nvPr/>
        </p:nvSpPr>
        <p:spPr>
          <a:xfrm>
            <a:off x="2590920" y="4876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7" name="WordArt 37"/>
          <p:cNvSpPr txBox="1"/>
          <p:nvPr/>
        </p:nvSpPr>
        <p:spPr>
          <a:xfrm>
            <a:off x="2133720" y="4267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8" name="AutoShape 38"/>
          <p:cNvSpPr/>
          <p:nvPr/>
        </p:nvSpPr>
        <p:spPr>
          <a:xfrm>
            <a:off x="4114800" y="5334120"/>
            <a:ext cx="990720" cy="76176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43"/>
          <p:cNvSpPr/>
          <p:nvPr/>
        </p:nvSpPr>
        <p:spPr>
          <a:xfrm>
            <a:off x="7326000" y="2811600"/>
            <a:ext cx="7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48"/>
          <p:cNvSpPr/>
          <p:nvPr/>
        </p:nvSpPr>
        <p:spPr>
          <a:xfrm>
            <a:off x="7718400" y="38401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49">
            <a:hlinkClick r:id="" action="ppaction://hlinkshowjump?jump=endshow"/>
          </p:cNvPr>
          <p:cNvSpPr/>
          <p:nvPr/>
        </p:nvSpPr>
        <p:spPr>
          <a:xfrm>
            <a:off x="5562720" y="54100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6001" y="10800"/>
                </a:moveTo>
                <a:lnTo>
                  <a:pt x="5496" y="17806"/>
                </a:lnTo>
                <a:lnTo>
                  <a:pt x="5496" y="3794"/>
                </a:lnTo>
                <a:close/>
              </a:path>
              <a:path fill="darken" w="25004" h="21600">
                <a:moveTo>
                  <a:pt x="17846" y="3794"/>
                </a:moveTo>
                <a:lnTo>
                  <a:pt x="17846" y="17806"/>
                </a:lnTo>
                <a:lnTo>
                  <a:pt x="19508" y="17806"/>
                </a:lnTo>
                <a:lnTo>
                  <a:pt x="19508" y="37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WordArt 50"/>
          <p:cNvSpPr txBox="1"/>
          <p:nvPr/>
        </p:nvSpPr>
        <p:spPr>
          <a:xfrm>
            <a:off x="5943600" y="5715000"/>
            <a:ext cx="914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退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3" name="AutoShape 57"/>
          <p:cNvSpPr/>
          <p:nvPr/>
        </p:nvSpPr>
        <p:spPr>
          <a:xfrm>
            <a:off x="6095880" y="2057400"/>
            <a:ext cx="2210040" cy="1676520"/>
          </a:xfrm>
          <a:custGeom>
            <a:avLst/>
            <a:gdLst>
              <a:gd name="textAreaLeft" fmla="*/ 108360 w 2210040"/>
              <a:gd name="textAreaRight" fmla="*/ 2101680 w 22100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72" h="21600">
                <a:moveTo>
                  <a:pt x="0" y="0"/>
                </a:moveTo>
                <a:lnTo>
                  <a:pt x="28472" y="0"/>
                </a:lnTo>
                <a:lnTo>
                  <a:pt x="28472" y="21600"/>
                </a:lnTo>
                <a:lnTo>
                  <a:pt x="0" y="21600"/>
                </a:lnTo>
                <a:close/>
              </a:path>
              <a:path fill="lightenLess" w="28472" h="21600">
                <a:moveTo>
                  <a:pt x="0" y="0"/>
                </a:moveTo>
                <a:lnTo>
                  <a:pt x="28472" y="0"/>
                </a:lnTo>
                <a:lnTo>
                  <a:pt x="27072" y="1400"/>
                </a:lnTo>
                <a:lnTo>
                  <a:pt x="1400" y="1400"/>
                </a:lnTo>
                <a:close/>
              </a:path>
              <a:path fill="darken" w="28472" h="21600">
                <a:moveTo>
                  <a:pt x="28472" y="0"/>
                </a:moveTo>
                <a:lnTo>
                  <a:pt x="28472" y="21600"/>
                </a:lnTo>
                <a:lnTo>
                  <a:pt x="27072" y="20200"/>
                </a:lnTo>
                <a:lnTo>
                  <a:pt x="27072" y="1400"/>
                </a:lnTo>
                <a:close/>
              </a:path>
              <a:path fill="darkenLess" w="28472" h="21600">
                <a:moveTo>
                  <a:pt x="28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72" y="20200"/>
                </a:lnTo>
                <a:close/>
              </a:path>
              <a:path fill="lighten" w="28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72" h="21600">
                <a:moveTo>
                  <a:pt x="7230" y="7301"/>
                </a:moveTo>
                <a:lnTo>
                  <a:pt x="8144" y="7301"/>
                </a:lnTo>
                <a:lnTo>
                  <a:pt x="8527" y="7667"/>
                </a:lnTo>
                <a:lnTo>
                  <a:pt x="17735" y="7667"/>
                </a:lnTo>
                <a:lnTo>
                  <a:pt x="18292" y="8224"/>
                </a:lnTo>
                <a:lnTo>
                  <a:pt x="18292" y="8772"/>
                </a:lnTo>
                <a:lnTo>
                  <a:pt x="20137" y="8772"/>
                </a:lnTo>
                <a:lnTo>
                  <a:pt x="20503" y="8224"/>
                </a:lnTo>
                <a:lnTo>
                  <a:pt x="21243" y="8224"/>
                </a:lnTo>
                <a:lnTo>
                  <a:pt x="21243" y="13376"/>
                </a:lnTo>
                <a:lnTo>
                  <a:pt x="20503" y="13376"/>
                </a:lnTo>
                <a:lnTo>
                  <a:pt x="20137" y="12828"/>
                </a:lnTo>
                <a:lnTo>
                  <a:pt x="18292" y="12828"/>
                </a:lnTo>
                <a:lnTo>
                  <a:pt x="18292" y="14107"/>
                </a:lnTo>
                <a:lnTo>
                  <a:pt x="8709" y="14107"/>
                </a:lnTo>
                <a:lnTo>
                  <a:pt x="8709" y="9877"/>
                </a:lnTo>
                <a:lnTo>
                  <a:pt x="8527" y="9877"/>
                </a:lnTo>
                <a:lnTo>
                  <a:pt x="8144" y="10243"/>
                </a:lnTo>
                <a:lnTo>
                  <a:pt x="7230" y="10243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WordArt 59"/>
          <p:cNvSpPr txBox="1"/>
          <p:nvPr/>
        </p:nvSpPr>
        <p:spPr>
          <a:xfrm>
            <a:off x="6477120" y="27432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单元复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65" name="Picture 60" descr="图片3"/>
          <p:cNvPicPr/>
          <p:nvPr/>
        </p:nvPicPr>
        <p:blipFill>
          <a:blip r:embed="rId12"/>
          <a:stretch/>
        </p:blipFill>
        <p:spPr>
          <a:xfrm>
            <a:off x="-304920" y="-142920"/>
            <a:ext cx="9753840" cy="7143840"/>
          </a:xfrm>
          <a:prstGeom prst="rect">
            <a:avLst/>
          </a:prstGeom>
          <a:ln w="0">
            <a:noFill/>
          </a:ln>
        </p:spPr>
      </p:pic>
      <p:sp>
        <p:nvSpPr>
          <p:cNvPr id="136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29D5-0258-43E5-BCE1-25C3F1659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Line 4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5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6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9"/>
          <p:cNvSpPr/>
          <p:nvPr/>
        </p:nvSpPr>
        <p:spPr>
          <a:xfrm>
            <a:off x="30492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0"/>
          <p:cNvSpPr/>
          <p:nvPr/>
        </p:nvSpPr>
        <p:spPr>
          <a:xfrm>
            <a:off x="3886200" y="274320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11"/>
          <p:cNvSpPr/>
          <p:nvPr/>
        </p:nvSpPr>
        <p:spPr>
          <a:xfrm>
            <a:off x="3733920" y="21337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2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13BB-2070-436E-9BEA-567447B5A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Line 4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WordArt 5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79" name="Line 6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7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10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11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1197-B60E-4890-9CD6-6F1140EF5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Line 4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7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8"/>
          <p:cNvSpPr/>
          <p:nvPr/>
        </p:nvSpPr>
        <p:spPr>
          <a:xfrm>
            <a:off x="38098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9"/>
          <p:cNvSpPr/>
          <p:nvPr/>
        </p:nvSpPr>
        <p:spPr>
          <a:xfrm>
            <a:off x="4648320" y="2209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WordArt 10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93" name="Line 11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AutoShape 12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9F68-8B1D-47C2-B745-298743CB3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Line 4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7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8"/>
          <p:cNvSpPr/>
          <p:nvPr/>
        </p:nvSpPr>
        <p:spPr>
          <a:xfrm>
            <a:off x="3733920" y="2743200"/>
            <a:ext cx="91440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10"/>
          <p:cNvSpPr/>
          <p:nvPr/>
        </p:nvSpPr>
        <p:spPr>
          <a:xfrm flipH="1">
            <a:off x="3962160" y="2743200"/>
            <a:ext cx="1447560" cy="30481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11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F8B8-973D-4628-89D8-76EC3213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Line 4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6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7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9"/>
          <p:cNvSpPr/>
          <p:nvPr/>
        </p:nvSpPr>
        <p:spPr>
          <a:xfrm>
            <a:off x="2743200" y="2743200"/>
            <a:ext cx="60948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0"/>
          <p:cNvSpPr/>
          <p:nvPr/>
        </p:nvSpPr>
        <p:spPr>
          <a:xfrm flipH="1">
            <a:off x="3352680" y="2743200"/>
            <a:ext cx="60984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"/>
          <p:cNvSpPr/>
          <p:nvPr/>
        </p:nvSpPr>
        <p:spPr>
          <a:xfrm>
            <a:off x="3962520" y="2743200"/>
            <a:ext cx="45720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2"/>
          <p:cNvSpPr/>
          <p:nvPr/>
        </p:nvSpPr>
        <p:spPr>
          <a:xfrm flipH="1">
            <a:off x="4419360" y="2743200"/>
            <a:ext cx="60948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15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C15E-4246-4AF2-BEFD-7D3E5BDF1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WordArt 5"/>
          <p:cNvSpPr txBox="1"/>
          <p:nvPr/>
        </p:nvSpPr>
        <p:spPr>
          <a:xfrm>
            <a:off x="2133720" y="2286000"/>
            <a:ext cx="1295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y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yi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0" y="1828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9"/>
          <p:cNvSpPr/>
          <p:nvPr/>
        </p:nvSpPr>
        <p:spPr>
          <a:xfrm>
            <a:off x="60199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WordArt 10" descr=""/>
          <p:cNvPicPr/>
          <p:nvPr/>
        </p:nvPicPr>
        <p:blipFill>
          <a:blip r:embed="rId2"/>
          <a:stretch/>
        </p:blipFill>
        <p:spPr>
          <a:xfrm>
            <a:off x="4110120" y="1900080"/>
            <a:ext cx="1724040" cy="4562640"/>
          </a:xfrm>
          <a:prstGeom prst="rect">
            <a:avLst/>
          </a:prstGeom>
          <a:ln w="0">
            <a:noFill/>
          </a:ln>
        </p:spPr>
      </p:pic>
      <p:sp>
        <p:nvSpPr>
          <p:cNvPr id="1422" name="WordArt 11"/>
          <p:cNvSpPr txBox="1"/>
          <p:nvPr/>
        </p:nvSpPr>
        <p:spPr>
          <a:xfrm>
            <a:off x="2895480" y="1905120"/>
            <a:ext cx="228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i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423" name="WordArt 12" descr=""/>
          <p:cNvPicPr/>
          <p:nvPr/>
        </p:nvPicPr>
        <p:blipFill>
          <a:blip r:embed="rId3"/>
          <a:stretch/>
        </p:blipFill>
        <p:spPr>
          <a:xfrm>
            <a:off x="6165720" y="1822320"/>
            <a:ext cx="965160" cy="4915080"/>
          </a:xfrm>
          <a:prstGeom prst="rect">
            <a:avLst/>
          </a:prstGeom>
          <a:ln w="0">
            <a:noFill/>
          </a:ln>
        </p:spPr>
      </p:pic>
      <p:sp>
        <p:nvSpPr>
          <p:cNvPr id="1424" name="Line 13"/>
          <p:cNvSpPr/>
          <p:nvPr/>
        </p:nvSpPr>
        <p:spPr>
          <a:xfrm>
            <a:off x="20574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4"/>
          <p:cNvSpPr/>
          <p:nvPr/>
        </p:nvSpPr>
        <p:spPr>
          <a:xfrm flipH="1">
            <a:off x="-360" y="5334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5"/>
          <p:cNvSpPr/>
          <p:nvPr/>
        </p:nvSpPr>
        <p:spPr>
          <a:xfrm flipH="1">
            <a:off x="-360" y="335268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WordArt 16"/>
          <p:cNvSpPr txBox="1"/>
          <p:nvPr/>
        </p:nvSpPr>
        <p:spPr>
          <a:xfrm>
            <a:off x="6324480" y="380988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(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无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8" name="WordArt 17"/>
          <p:cNvSpPr txBox="1"/>
          <p:nvPr/>
        </p:nvSpPr>
        <p:spPr>
          <a:xfrm>
            <a:off x="1066680" y="228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读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29" name="Line 18"/>
          <p:cNvSpPr/>
          <p:nvPr/>
        </p:nvSpPr>
        <p:spPr>
          <a:xfrm>
            <a:off x="304920" y="0"/>
            <a:ext cx="175248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9"/>
          <p:cNvSpPr/>
          <p:nvPr/>
        </p:nvSpPr>
        <p:spPr>
          <a:xfrm>
            <a:off x="0" y="914400"/>
            <a:ext cx="2057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WordArt 20"/>
          <p:cNvSpPr txBox="1"/>
          <p:nvPr/>
        </p:nvSpPr>
        <p:spPr>
          <a:xfrm rot="1294200">
            <a:off x="151920" y="533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写法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2" name="WordArt 21"/>
          <p:cNvSpPr txBox="1"/>
          <p:nvPr/>
        </p:nvSpPr>
        <p:spPr>
          <a:xfrm>
            <a:off x="228600" y="1371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类型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3" name="WordArt 22"/>
          <p:cNvSpPr txBox="1"/>
          <p:nvPr/>
        </p:nvSpPr>
        <p:spPr>
          <a:xfrm>
            <a:off x="304920" y="2362320"/>
            <a:ext cx="1676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韵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4" name="WordArt 23"/>
          <p:cNvSpPr txBox="1"/>
          <p:nvPr/>
        </p:nvSpPr>
        <p:spPr>
          <a:xfrm>
            <a:off x="0" y="3352680"/>
            <a:ext cx="1981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声母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5" name="WordArt 24"/>
          <p:cNvSpPr txBox="1"/>
          <p:nvPr/>
        </p:nvSpPr>
        <p:spPr>
          <a:xfrm>
            <a:off x="0" y="533412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整体认读音节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36" name="Picture 25" descr="c80e42ee4c9091d5b3fb95a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3808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26" descr="c80e42ee4c9091d5b3fb95a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14600" y="3808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27" descr="c80e42ee4c9091d5b3fb95a2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724280" y="38088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439" name="AutoShape 28"/>
          <p:cNvSpPr/>
          <p:nvPr/>
        </p:nvSpPr>
        <p:spPr>
          <a:xfrm>
            <a:off x="8153280" y="457200"/>
            <a:ext cx="990720" cy="18288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828800"/>
              <a:gd name="textAreaBottom" fmla="*/ 1764720 h 1828800"/>
            </a:gdLst>
            <a:ahLst/>
            <a:rect l="textAreaLeft" t="textAreaTop" r="textAreaRight" b="textAreaBottom"/>
            <a:pathLst>
              <a:path w="21600" h="39865">
                <a:moveTo>
                  <a:pt x="0" y="0"/>
                </a:moveTo>
                <a:lnTo>
                  <a:pt x="21600" y="0"/>
                </a:lnTo>
                <a:lnTo>
                  <a:pt x="21600" y="39865"/>
                </a:lnTo>
                <a:lnTo>
                  <a:pt x="0" y="39865"/>
                </a:lnTo>
                <a:close/>
              </a:path>
              <a:path fill="lightenLess" w="21600" h="39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865">
                <a:moveTo>
                  <a:pt x="21600" y="0"/>
                </a:moveTo>
                <a:lnTo>
                  <a:pt x="21600" y="39865"/>
                </a:lnTo>
                <a:lnTo>
                  <a:pt x="20200" y="38465"/>
                </a:lnTo>
                <a:lnTo>
                  <a:pt x="20200" y="1400"/>
                </a:lnTo>
                <a:close/>
              </a:path>
              <a:path fill="darkenLess" w="21600" h="39865">
                <a:moveTo>
                  <a:pt x="21600" y="39865"/>
                </a:moveTo>
                <a:lnTo>
                  <a:pt x="0" y="39865"/>
                </a:lnTo>
                <a:lnTo>
                  <a:pt x="1400" y="38465"/>
                </a:lnTo>
                <a:lnTo>
                  <a:pt x="20200" y="38465"/>
                </a:lnTo>
                <a:close/>
              </a:path>
              <a:path fill="lighten" w="21600" h="39865">
                <a:moveTo>
                  <a:pt x="0" y="39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38465"/>
                </a:lnTo>
                <a:close/>
              </a:path>
              <a:path fill="darken" w="21600" h="39865">
                <a:moveTo>
                  <a:pt x="3794" y="16625"/>
                </a:moveTo>
                <a:lnTo>
                  <a:pt x="7301" y="16625"/>
                </a:lnTo>
                <a:lnTo>
                  <a:pt x="7301" y="21961"/>
                </a:lnTo>
                <a:cubicBezTo>
                  <a:pt x="7301" y="22883"/>
                  <a:pt x="8102" y="23614"/>
                  <a:pt x="9138" y="23614"/>
                </a:cubicBezTo>
                <a:lnTo>
                  <a:pt x="10800" y="23614"/>
                </a:lnTo>
                <a:cubicBezTo>
                  <a:pt x="11836" y="23614"/>
                  <a:pt x="12636" y="22883"/>
                  <a:pt x="12636" y="21961"/>
                </a:cubicBezTo>
                <a:lnTo>
                  <a:pt x="12636" y="16625"/>
                </a:lnTo>
                <a:lnTo>
                  <a:pt x="10800" y="16625"/>
                </a:lnTo>
                <a:lnTo>
                  <a:pt x="14308" y="13118"/>
                </a:lnTo>
                <a:lnTo>
                  <a:pt x="17981" y="16625"/>
                </a:lnTo>
                <a:lnTo>
                  <a:pt x="16144" y="16625"/>
                </a:lnTo>
                <a:lnTo>
                  <a:pt x="16144" y="21961"/>
                </a:lnTo>
                <a:cubicBezTo>
                  <a:pt x="16144" y="24728"/>
                  <a:pt x="13568" y="27287"/>
                  <a:pt x="10800" y="27287"/>
                </a:cubicBezTo>
                <a:lnTo>
                  <a:pt x="9138" y="27287"/>
                </a:lnTo>
                <a:cubicBezTo>
                  <a:pt x="6370" y="27287"/>
                  <a:pt x="3794" y="24728"/>
                  <a:pt x="3794" y="21961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9"/>
          <p:cNvSpPr/>
          <p:nvPr/>
        </p:nvSpPr>
        <p:spPr>
          <a:xfrm>
            <a:off x="75438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WordArt 30"/>
          <p:cNvSpPr txBox="1"/>
          <p:nvPr/>
        </p:nvSpPr>
        <p:spPr>
          <a:xfrm>
            <a:off x="7924680" y="525780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2" name="WordArt 34"/>
          <p:cNvSpPr txBox="1"/>
          <p:nvPr/>
        </p:nvSpPr>
        <p:spPr>
          <a:xfrm rot="16200000">
            <a:off x="7353360" y="3542760"/>
            <a:ext cx="2438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162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162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3" name="灯片编号占位符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D3B1-A49D-4DDE-991A-FD8D209CA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页脚占位符 3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7" name="Rectangle 4"/>
          <p:cNvSpPr/>
          <p:nvPr/>
        </p:nvSpPr>
        <p:spPr>
          <a:xfrm>
            <a:off x="-152280" y="0"/>
            <a:ext cx="929628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整体认读节音一般是指添加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声母后读音仍和韵母一样的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（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yuan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比较特殊），也就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指不用拼读即直接认读的音节，所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整体认读音节要直接读出，如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yi wu yu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AutoShape 5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F33A-6072-4A29-BD67-9D7449057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9" name="WordArt 6"/>
          <p:cNvSpPr txBox="1"/>
          <p:nvPr/>
        </p:nvSpPr>
        <p:spPr>
          <a:xfrm>
            <a:off x="1676520" y="762120"/>
            <a:ext cx="5790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请选择您要用的功能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60" name="AutoShape 7">
            <a:hlinkClick r:id="rId2" action="ppaction://hlinksldjump"/>
          </p:cNvPr>
          <p:cNvSpPr/>
          <p:nvPr/>
        </p:nvSpPr>
        <p:spPr>
          <a:xfrm>
            <a:off x="990720" y="1828800"/>
            <a:ext cx="1904760" cy="1295280"/>
          </a:xfrm>
          <a:custGeom>
            <a:avLst/>
            <a:gdLst>
              <a:gd name="textAreaLeft" fmla="*/ 83880 w 1904760"/>
              <a:gd name="textAreaRight" fmla="*/ 1820880 w 19047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1761" h="21600">
                <a:moveTo>
                  <a:pt x="0" y="0"/>
                </a:moveTo>
                <a:lnTo>
                  <a:pt x="31761" y="0"/>
                </a:lnTo>
                <a:lnTo>
                  <a:pt x="31761" y="21600"/>
                </a:lnTo>
                <a:lnTo>
                  <a:pt x="0" y="21600"/>
                </a:lnTo>
                <a:close/>
              </a:path>
              <a:path fill="lightenLess" w="31761" h="21600">
                <a:moveTo>
                  <a:pt x="0" y="0"/>
                </a:moveTo>
                <a:lnTo>
                  <a:pt x="31761" y="0"/>
                </a:lnTo>
                <a:lnTo>
                  <a:pt x="30361" y="1400"/>
                </a:lnTo>
                <a:lnTo>
                  <a:pt x="1400" y="1400"/>
                </a:lnTo>
                <a:close/>
              </a:path>
              <a:path fill="darken" w="31761" h="21600">
                <a:moveTo>
                  <a:pt x="31761" y="0"/>
                </a:moveTo>
                <a:lnTo>
                  <a:pt x="31761" y="21600"/>
                </a:lnTo>
                <a:lnTo>
                  <a:pt x="30361" y="20200"/>
                </a:lnTo>
                <a:lnTo>
                  <a:pt x="30361" y="1400"/>
                </a:lnTo>
                <a:close/>
              </a:path>
              <a:path fill="darkenLess" w="31761" h="21600">
                <a:moveTo>
                  <a:pt x="31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1" y="20200"/>
                </a:lnTo>
                <a:close/>
              </a:path>
              <a:path fill="lighten" w="31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61" h="21600">
                <a:moveTo>
                  <a:pt x="8874" y="3794"/>
                </a:moveTo>
                <a:lnTo>
                  <a:pt x="22887" y="10800"/>
                </a:lnTo>
                <a:lnTo>
                  <a:pt x="887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WordArt 8"/>
          <p:cNvSpPr txBox="1"/>
          <p:nvPr/>
        </p:nvSpPr>
        <p:spPr>
          <a:xfrm>
            <a:off x="3276000" y="2209680"/>
            <a:ext cx="1904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2" name="WordArt 9"/>
          <p:cNvSpPr txBox="1"/>
          <p:nvPr/>
        </p:nvSpPr>
        <p:spPr>
          <a:xfrm>
            <a:off x="3886200" y="2666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3" name="WordArt 10"/>
          <p:cNvSpPr txBox="1"/>
          <p:nvPr/>
        </p:nvSpPr>
        <p:spPr>
          <a:xfrm>
            <a:off x="5257800" y="1905120"/>
            <a:ext cx="914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导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64" name="AutoShape 11">
            <a:hlinkClick r:id="rId3" action="ppaction://hlinksldjump"/>
          </p:cNvPr>
          <p:cNvSpPr/>
          <p:nvPr/>
        </p:nvSpPr>
        <p:spPr>
          <a:xfrm>
            <a:off x="914400" y="3276720"/>
            <a:ext cx="1981080" cy="99036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WordArt 12"/>
          <p:cNvSpPr txBox="1"/>
          <p:nvPr/>
        </p:nvSpPr>
        <p:spPr>
          <a:xfrm rot="5400000">
            <a:off x="5410080" y="3429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学习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6" name="WordArt 13"/>
          <p:cNvSpPr txBox="1"/>
          <p:nvPr/>
        </p:nvSpPr>
        <p:spPr>
          <a:xfrm rot="10800000">
            <a:off x="5143680" y="38862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7" name="WordArt 14"/>
          <p:cNvSpPr txBox="1"/>
          <p:nvPr/>
        </p:nvSpPr>
        <p:spPr>
          <a:xfrm>
            <a:off x="3962520" y="3962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8" name="WordArt 15"/>
          <p:cNvSpPr txBox="1"/>
          <p:nvPr/>
        </p:nvSpPr>
        <p:spPr>
          <a:xfrm>
            <a:off x="5486400" y="44197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刷新</a:t>
            </a:r>
            <a:endParaRPr b="0" lang="en-US" sz="18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9" name="WordArt 16"/>
          <p:cNvSpPr txBox="1"/>
          <p:nvPr/>
        </p:nvSpPr>
        <p:spPr>
          <a:xfrm rot="10800000">
            <a:off x="5143680" y="4952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0" name="AutoShape 18">
            <a:hlinkClick r:id="rId8" action="ppaction://hlinksldjump"/>
          </p:cNvPr>
          <p:cNvSpPr/>
          <p:nvPr/>
        </p:nvSpPr>
        <p:spPr>
          <a:xfrm>
            <a:off x="9144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89" h="21600">
                <a:moveTo>
                  <a:pt x="24545" y="3837"/>
                </a:moveTo>
                <a:lnTo>
                  <a:pt x="27121" y="6448"/>
                </a:lnTo>
                <a:lnTo>
                  <a:pt x="27121" y="4707"/>
                </a:lnTo>
                <a:lnTo>
                  <a:pt x="28896" y="4707"/>
                </a:lnTo>
                <a:lnTo>
                  <a:pt x="28896" y="8224"/>
                </a:lnTo>
                <a:lnTo>
                  <a:pt x="31508" y="10800"/>
                </a:lnTo>
                <a:lnTo>
                  <a:pt x="29854" y="10800"/>
                </a:lnTo>
                <a:lnTo>
                  <a:pt x="29854" y="17989"/>
                </a:lnTo>
                <a:lnTo>
                  <a:pt x="19235" y="17989"/>
                </a:lnTo>
                <a:lnTo>
                  <a:pt x="19235" y="10800"/>
                </a:lnTo>
                <a:lnTo>
                  <a:pt x="17582" y="10800"/>
                </a:lnTo>
                <a:close/>
              </a:path>
              <a:path fill="darkenLess" w="49089" h="21600">
                <a:moveTo>
                  <a:pt x="27121" y="6448"/>
                </a:moveTo>
                <a:lnTo>
                  <a:pt x="27121" y="4707"/>
                </a:lnTo>
                <a:lnTo>
                  <a:pt x="28896" y="4707"/>
                </a:lnTo>
                <a:lnTo>
                  <a:pt x="28896" y="8224"/>
                </a:lnTo>
                <a:close/>
              </a:path>
              <a:path fill="darkenLess" w="49089" h="21600">
                <a:moveTo>
                  <a:pt x="23622" y="14299"/>
                </a:moveTo>
                <a:lnTo>
                  <a:pt x="25467" y="14299"/>
                </a:lnTo>
                <a:lnTo>
                  <a:pt x="25467" y="17989"/>
                </a:lnTo>
                <a:lnTo>
                  <a:pt x="29854" y="17989"/>
                </a:lnTo>
                <a:lnTo>
                  <a:pt x="29854" y="10800"/>
                </a:lnTo>
                <a:lnTo>
                  <a:pt x="19235" y="10800"/>
                </a:lnTo>
                <a:lnTo>
                  <a:pt x="19235" y="17989"/>
                </a:lnTo>
                <a:lnTo>
                  <a:pt x="23622" y="1798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WordArt 19"/>
          <p:cNvSpPr txBox="1"/>
          <p:nvPr/>
        </p:nvSpPr>
        <p:spPr>
          <a:xfrm>
            <a:off x="3962520" y="4876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2" name="AutoShape 20">
            <a:hlinkClick r:id="rId9" action="ppaction://hlinksldjump"/>
          </p:cNvPr>
          <p:cNvSpPr/>
          <p:nvPr/>
        </p:nvSpPr>
        <p:spPr>
          <a:xfrm>
            <a:off x="3429000" y="5638680"/>
            <a:ext cx="5334120" cy="990720"/>
          </a:xfrm>
          <a:custGeom>
            <a:avLst/>
            <a:gdLst>
              <a:gd name="textAreaLeft" fmla="*/ 64080 w 5334120"/>
              <a:gd name="textAreaRight" fmla="*/ 5270040 w 53341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6262" h="21600">
                <a:moveTo>
                  <a:pt x="0" y="0"/>
                </a:moveTo>
                <a:lnTo>
                  <a:pt x="116262" y="0"/>
                </a:lnTo>
                <a:lnTo>
                  <a:pt x="116262" y="21600"/>
                </a:lnTo>
                <a:lnTo>
                  <a:pt x="0" y="21600"/>
                </a:lnTo>
                <a:close/>
              </a:path>
              <a:path fill="lightenLess" w="116262" h="21600">
                <a:moveTo>
                  <a:pt x="0" y="0"/>
                </a:moveTo>
                <a:lnTo>
                  <a:pt x="116262" y="0"/>
                </a:lnTo>
                <a:lnTo>
                  <a:pt x="114862" y="1400"/>
                </a:lnTo>
                <a:lnTo>
                  <a:pt x="1400" y="1400"/>
                </a:lnTo>
                <a:close/>
              </a:path>
              <a:path fill="darken" w="116262" h="21600">
                <a:moveTo>
                  <a:pt x="116262" y="0"/>
                </a:moveTo>
                <a:lnTo>
                  <a:pt x="116262" y="21600"/>
                </a:lnTo>
                <a:lnTo>
                  <a:pt x="114862" y="20200"/>
                </a:lnTo>
                <a:lnTo>
                  <a:pt x="114862" y="1400"/>
                </a:lnTo>
                <a:close/>
              </a:path>
              <a:path fill="darkenLess" w="116262" h="21600">
                <a:moveTo>
                  <a:pt x="116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862" y="20200"/>
                </a:lnTo>
                <a:close/>
              </a:path>
              <a:path fill="lighten" w="116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更多内容（含复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Object 25" descr=""/>
          <p:cNvPicPr/>
          <p:nvPr/>
        </p:nvPicPr>
        <p:blipFill>
          <a:blip r:embed="rId10"/>
          <a:stretch/>
        </p:blipFill>
        <p:spPr>
          <a:xfrm>
            <a:off x="4243320" y="7543800"/>
            <a:ext cx="6096240" cy="30960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26" descr="三个兔子手拉手"/>
          <p:cNvPicPr/>
          <p:nvPr/>
        </p:nvPicPr>
        <p:blipFill>
          <a:blip r:embed="rId11"/>
          <a:stretch/>
        </p:blipFill>
        <p:spPr>
          <a:xfrm>
            <a:off x="-304920" y="-1309680"/>
            <a:ext cx="9753840" cy="9477360"/>
          </a:xfrm>
          <a:prstGeom prst="rect">
            <a:avLst/>
          </a:prstGeom>
          <a:ln w="0">
            <a:noFill/>
          </a:ln>
        </p:spPr>
      </p:pic>
      <p:sp>
        <p:nvSpPr>
          <p:cNvPr id="1175" name="灯片编号占位符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B2E8-15BD-47EE-9776-A854C3CAF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页脚占位符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045"/>
          <p:cNvSpPr/>
          <p:nvPr/>
        </p:nvSpPr>
        <p:spPr>
          <a:xfrm>
            <a:off x="157320" y="-106668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矩形 104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矩形 1047"/>
          <p:cNvSpPr/>
          <p:nvPr/>
        </p:nvSpPr>
        <p:spPr>
          <a:xfrm>
            <a:off x="476280" y="451800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4"/>
          <p:cNvSpPr/>
          <p:nvPr/>
        </p:nvSpPr>
        <p:spPr>
          <a:xfrm>
            <a:off x="533520" y="228600"/>
            <a:ext cx="4876560" cy="2514600"/>
          </a:xfrm>
          <a:prstGeom prst="rect">
            <a:avLst/>
          </a:prstGeom>
          <a:solidFill>
            <a:srgbClr val="ff6600">
              <a:alpha val="55000"/>
            </a:srgbClr>
          </a:solidFill>
          <a:ln w="76320">
            <a:solidFill>
              <a:srgbClr val="007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7673"/>
                </a:solidFill>
                <a:latin typeface="Arial"/>
                <a:ea typeface="方正姚体"/>
              </a:rPr>
              <a:t>导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5"/>
          <p:cNvSpPr/>
          <p:nvPr/>
        </p:nvSpPr>
        <p:spPr>
          <a:xfrm>
            <a:off x="1676520" y="3048120"/>
            <a:ext cx="5181480" cy="3581280"/>
          </a:xfrm>
          <a:prstGeom prst="rect">
            <a:avLst/>
          </a:prstGeom>
          <a:solidFill>
            <a:srgbClr val="ffff00">
              <a:alpha val="55000"/>
            </a:srgbClr>
          </a:solidFill>
          <a:ln w="38160">
            <a:solidFill>
              <a:srgbClr val="007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今天学习的是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拼音，分别是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韵母、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声母，和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1" action="ppaction://hlinksldjump"/>
              </a:rPr>
              <a:t>整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（若不明白整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2" action="ppaction://hlinksldjump"/>
              </a:rPr>
              <a:t>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点击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3" action="ppaction://hlinksldjump"/>
              </a:rPr>
              <a:t>整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6">
            <a:hlinkClick r:id="rId4" action="ppaction://hlinksldjump"/>
          </p:cNvPr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灯片编号占位符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1B59-CC40-4895-9FC2-32B6E750F1AA}" type="slidenum">
              <a:rPr b="0" lang="en-US" sz="1200" spc="-1" strike="noStrike">
                <a:solidFill>
                  <a:srgbClr val="0076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页脚占位符 7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5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7" descr="《汉语拼音 2》i插图"/>
          <p:cNvPicPr/>
          <p:nvPr/>
        </p:nvPicPr>
        <p:blipFill>
          <a:blip r:embed="rId4"/>
          <a:stretch/>
        </p:blipFill>
        <p:spPr>
          <a:xfrm>
            <a:off x="457200" y="3808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1189" name="WordArt 8"/>
          <p:cNvSpPr txBox="1"/>
          <p:nvPr/>
        </p:nvSpPr>
        <p:spPr>
          <a:xfrm>
            <a:off x="4800600" y="685800"/>
            <a:ext cx="3162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0" name="WordArt 9"/>
          <p:cNvSpPr txBox="1"/>
          <p:nvPr/>
        </p:nvSpPr>
        <p:spPr>
          <a:xfrm>
            <a:off x="1523880" y="3352680"/>
            <a:ext cx="14479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衣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1" name="Text Box 10"/>
          <p:cNvSpPr/>
          <p:nvPr/>
        </p:nvSpPr>
        <p:spPr>
          <a:xfrm>
            <a:off x="3352680" y="3352680"/>
            <a:ext cx="4800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99"/>
                </a:solidFill>
                <a:latin typeface="zypyyb"/>
                <a:ea typeface="zypyyb"/>
              </a:rPr>
              <a:t>一件衣服，嘴巴扁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zypyyb"/>
                <a:ea typeface="zypyyb"/>
              </a:rPr>
              <a:t>iii</a:t>
            </a: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小棍头上有一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11" descr="c80e42ee4c9091d5b3fb95a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6748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19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E8A5-F007-453F-86A8-DFC26AD55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196" name="Line 10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2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8"/>
          <p:cNvSpPr/>
          <p:nvPr/>
        </p:nvSpPr>
        <p:spPr>
          <a:xfrm>
            <a:off x="3581280" y="2666880"/>
            <a:ext cx="38124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20"/>
          <p:cNvSpPr/>
          <p:nvPr/>
        </p:nvSpPr>
        <p:spPr>
          <a:xfrm>
            <a:off x="3581280" y="1828800"/>
            <a:ext cx="381240" cy="38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21"/>
          <p:cNvSpPr/>
          <p:nvPr/>
        </p:nvSpPr>
        <p:spPr>
          <a:xfrm>
            <a:off x="380880" y="2666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22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23"/>
          <p:cNvSpPr/>
          <p:nvPr/>
        </p:nvSpPr>
        <p:spPr>
          <a:xfrm>
            <a:off x="4114800" y="2743200"/>
            <a:ext cx="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4343400" y="3352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038480" y="1523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0A18-0BDF-4B3E-A628-422DC320B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4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5" descr="《汉语拼音 2》u插图"/>
          <p:cNvPicPr/>
          <p:nvPr/>
        </p:nvPicPr>
        <p:blipFill>
          <a:blip r:embed="rId3"/>
          <a:stretch/>
        </p:blipFill>
        <p:spPr>
          <a:xfrm>
            <a:off x="457200" y="380880"/>
            <a:ext cx="4876920" cy="3200400"/>
          </a:xfrm>
          <a:prstGeom prst="rect">
            <a:avLst/>
          </a:prstGeom>
          <a:ln w="0">
            <a:noFill/>
          </a:ln>
        </p:spPr>
      </p:pic>
      <p:sp>
        <p:nvSpPr>
          <p:cNvPr id="1209" name="WordArt 6"/>
          <p:cNvSpPr txBox="1"/>
          <p:nvPr/>
        </p:nvSpPr>
        <p:spPr>
          <a:xfrm>
            <a:off x="5334120" y="1219320"/>
            <a:ext cx="20955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u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10" name="WordArt 7"/>
          <p:cNvSpPr txBox="1"/>
          <p:nvPr/>
        </p:nvSpPr>
        <p:spPr>
          <a:xfrm>
            <a:off x="1523880" y="3657600"/>
            <a:ext cx="2210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1" name="Text Box 8"/>
          <p:cNvSpPr/>
          <p:nvPr/>
        </p:nvSpPr>
        <p:spPr>
          <a:xfrm>
            <a:off x="4495680" y="4038480"/>
            <a:ext cx="3429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乌鸦啼叫，嘴巴突出，</a:t>
            </a:r>
            <a:r>
              <a:rPr b="1" lang="en-US" sz="4000" spc="-1" strike="noStrike">
                <a:solidFill>
                  <a:srgbClr val="ff3399"/>
                </a:solidFill>
                <a:latin typeface="zypyyb"/>
                <a:ea typeface="zypyyb"/>
              </a:rPr>
              <a:t>uuu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2" name="Picture 9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16002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13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60F2-C9A5-4436-9058-691613245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16" name="Line 5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7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9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WordArt 14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1" name="Line 15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20"/>
          <p:cNvSpPr/>
          <p:nvPr/>
        </p:nvSpPr>
        <p:spPr>
          <a:xfrm>
            <a:off x="3505320" y="1981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21"/>
          <p:cNvSpPr/>
          <p:nvPr/>
        </p:nvSpPr>
        <p:spPr>
          <a:xfrm>
            <a:off x="52578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22"/>
          <p:cNvSpPr/>
          <p:nvPr/>
        </p:nvSpPr>
        <p:spPr>
          <a:xfrm>
            <a:off x="5029200" y="2819520"/>
            <a:ext cx="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23"/>
          <p:cNvSpPr/>
          <p:nvPr/>
        </p:nvSpPr>
        <p:spPr>
          <a:xfrm flipV="1">
            <a:off x="4495680" y="2438280"/>
            <a:ext cx="304920" cy="144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24"/>
          <p:cNvSpPr/>
          <p:nvPr/>
        </p:nvSpPr>
        <p:spPr>
          <a:xfrm>
            <a:off x="4114800" y="2590920"/>
            <a:ext cx="380880" cy="12952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54D7-7446-4ADC-950D-25DB446EF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30" name="WordArt 8"/>
          <p:cNvSpPr txBox="1"/>
          <p:nvPr/>
        </p:nvSpPr>
        <p:spPr>
          <a:xfrm>
            <a:off x="838080" y="4191120"/>
            <a:ext cx="2286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淤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1" name="Text Box 9"/>
          <p:cNvSpPr/>
          <p:nvPr/>
        </p:nvSpPr>
        <p:spPr>
          <a:xfrm>
            <a:off x="4114800" y="396252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zypyyb"/>
                <a:ea typeface="zypyyb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兄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zypyyb"/>
                <a:ea typeface="zypyyb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头上没有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zypyyb"/>
              </a:rPr>
              <a:t>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头上有两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13" descr="《汉语拼音 2》ü插图"/>
          <p:cNvPicPr/>
          <p:nvPr/>
        </p:nvPicPr>
        <p:blipFill>
          <a:blip r:embed="rId5"/>
          <a:stretch/>
        </p:blipFill>
        <p:spPr>
          <a:xfrm>
            <a:off x="304920" y="533520"/>
            <a:ext cx="3200400" cy="3047760"/>
          </a:xfrm>
          <a:prstGeom prst="rect">
            <a:avLst/>
          </a:prstGeom>
          <a:ln w="0">
            <a:noFill/>
          </a:ln>
        </p:spPr>
      </p:pic>
      <p:sp>
        <p:nvSpPr>
          <p:cNvPr id="1233" name="WordArt 14"/>
          <p:cNvSpPr txBox="1"/>
          <p:nvPr/>
        </p:nvSpPr>
        <p:spPr>
          <a:xfrm>
            <a:off x="3505320" y="1371600"/>
            <a:ext cx="1904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6400800" y="838080"/>
            <a:ext cx="1295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小鱼吐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嘴巴也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黑体"/>
              </a:rPr>
              <a:t>üüü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16" descr="c80e42ee4c9091d5b3fb95a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29718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3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B289-4AA9-4767-865D-FB68C3BA2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6T21:42:37Z</dcterms:created>
  <dc:creator/>
  <dc:description/>
  <cp:keywords/>
  <dc:language>en-US</dc:language>
  <cp:lastModifiedBy>User</cp:lastModifiedBy>
  <dcterms:modified xsi:type="dcterms:W3CDTF">2016-10-05T11:55:59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  <property fmtid="{D5CDD505-2E9C-101B-9397-08002B2CF9AE}" pid="3" name="Version">
    <vt:r8>1</vt:r8>
  </property>
</Properties>
</file>